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media/image13.jpeg" ContentType="image/jpeg"/>
  <Override PartName="/ppt/media/image20.gif" ContentType="image/gif"/>
  <Override PartName="/ppt/media/image4.png" ContentType="image/png"/>
  <Override PartName="/ppt/media/image23.gif" ContentType="image/gif"/>
  <Override PartName="/ppt/media/image22.gif" ContentType="image/gif"/>
  <Override PartName="/ppt/media/image14.png" ContentType="image/png"/>
  <Override PartName="/ppt/media/image18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494-AB38-419B-BA8F-651AA6D8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5AA-F48A-47A8-9771-D173920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E4C-B6CD-4651-B70C-B5450B64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470-60AC-4BFC-8004-F275B0C6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B1B-90EA-402E-B7AB-631310D8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9133-19D9-4BA9-A329-E28EFAB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19CF-20CB-40B9-B424-402A512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FA50-5EF0-47F1-A2D0-72B7395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7356-E1D3-4D28-9862-F9A1318C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F5D0-7870-4C46-8280-4256D09C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E34E-88D8-426B-B2B1-2FB84E8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F99-B333-487C-9CA1-C7BE2BAB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2971-2D13-470B-B642-F60DA17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8834-A426-4B20-897C-FC2A0533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9715-1CC0-43ED-8C17-0C3F2C2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2223-70A7-40DD-B375-7DB6ECDD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681-038C-445F-8D34-B3534923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87B-5340-4CF8-BB00-23018D51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083-D97B-4ED9-91A9-3381FEC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A21-BEC1-4D68-8DBF-C53ADF6B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551-A956-458F-A375-0F520906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2A8-2C3B-473E-B992-87F2EAA1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8D8-5D18-45F2-A43C-BBA1618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FAC-FD50-471D-B8FD-04C68266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64D8-3DEC-4323-B2D0-38467DC775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2E88-EBD0-498C-94B7-0C08134C27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03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gif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6.gi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6.gif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79640" y="9651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购物中的数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320760" y="0"/>
            <a:ext cx="97506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62654" t="0" r="0" b="61981"/>
          <a:stretch/>
        </p:blipFill>
        <p:spPr>
          <a:xfrm>
            <a:off x="7164360" y="-1436760"/>
            <a:ext cx="1414440" cy="1436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rcRect l="0" t="63354" r="63354" b="0"/>
          <a:stretch/>
        </p:blipFill>
        <p:spPr>
          <a:xfrm>
            <a:off x="684360" y="-1220760"/>
            <a:ext cx="1223640" cy="122076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2000880" y="-740160"/>
            <a:ext cx="7873920" cy="5917320"/>
            <a:chOff x="2000880" y="-740160"/>
            <a:chExt cx="7873920" cy="5917320"/>
          </a:xfrm>
        </p:grpSpPr>
        <p:sp>
          <p:nvSpPr>
            <p:cNvPr id="158" name=""/>
            <p:cNvSpPr/>
            <p:nvPr/>
          </p:nvSpPr>
          <p:spPr>
            <a:xfrm rot="20815800">
              <a:off x="2410920" y="0"/>
              <a:ext cx="7053120" cy="4437000"/>
            </a:xfrm>
            <a:custGeom>
              <a:avLst/>
              <a:gdLst>
                <a:gd name="textAreaLeft" fmla="*/ 1538640 w 7053120"/>
                <a:gd name="textAreaRight" fmla="*/ 5514480 w 7053120"/>
                <a:gd name="textAreaTop" fmla="*/ 967680 h 4437000"/>
                <a:gd name="textAreaBottom" fmla="*/ 3469320 h 443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348" y="12443"/>
                  </a:lnTo>
                  <a:lnTo>
                    <a:pt x="786" y="14846"/>
                  </a:lnTo>
                  <a:lnTo>
                    <a:pt x="3579" y="15489"/>
                  </a:lnTo>
                  <a:lnTo>
                    <a:pt x="3163" y="18437"/>
                  </a:lnTo>
                  <a:lnTo>
                    <a:pt x="5985" y="17938"/>
                  </a:lnTo>
                  <a:lnTo>
                    <a:pt x="6580" y="20741"/>
                  </a:lnTo>
                  <a:lnTo>
                    <a:pt x="9010" y="19222"/>
                  </a:lnTo>
                  <a:lnTo>
                    <a:pt x="10800" y="21600"/>
                  </a:lnTo>
                  <a:lnTo>
                    <a:pt x="12443" y="19252"/>
                  </a:lnTo>
                  <a:lnTo>
                    <a:pt x="14846" y="20814"/>
                  </a:lnTo>
                  <a:lnTo>
                    <a:pt x="15489" y="18021"/>
                  </a:lnTo>
                  <a:lnTo>
                    <a:pt x="18437" y="18437"/>
                  </a:lnTo>
                  <a:lnTo>
                    <a:pt x="17938" y="15615"/>
                  </a:lnTo>
                  <a:lnTo>
                    <a:pt x="20741" y="15020"/>
                  </a:lnTo>
                  <a:lnTo>
                    <a:pt x="19222" y="12590"/>
                  </a:lnTo>
                  <a:lnTo>
                    <a:pt x="21600" y="10800"/>
                  </a:lnTo>
                  <a:lnTo>
                    <a:pt x="19252" y="9157"/>
                  </a:lnTo>
                  <a:lnTo>
                    <a:pt x="20814" y="6754"/>
                  </a:lnTo>
                  <a:lnTo>
                    <a:pt x="18021" y="6111"/>
                  </a:lnTo>
                  <a:lnTo>
                    <a:pt x="18437" y="3163"/>
                  </a:lnTo>
                  <a:lnTo>
                    <a:pt x="15615" y="3662"/>
                  </a:lnTo>
                  <a:lnTo>
                    <a:pt x="15020" y="859"/>
                  </a:lnTo>
                  <a:lnTo>
                    <a:pt x="12590" y="2378"/>
                  </a:lnTo>
                  <a:lnTo>
                    <a:pt x="10800" y="0"/>
                  </a:lnTo>
                  <a:lnTo>
                    <a:pt x="9157" y="2348"/>
                  </a:lnTo>
                  <a:lnTo>
                    <a:pt x="6754" y="786"/>
                  </a:lnTo>
                  <a:lnTo>
                    <a:pt x="6111" y="3579"/>
                  </a:lnTo>
                  <a:lnTo>
                    <a:pt x="3163" y="3163"/>
                  </a:lnTo>
                  <a:lnTo>
                    <a:pt x="3662" y="5985"/>
                  </a:lnTo>
                  <a:lnTo>
                    <a:pt x="859" y="6580"/>
                  </a:lnTo>
                  <a:lnTo>
                    <a:pt x="2378" y="901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11ff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708360" y="907920"/>
              <a:ext cx="4681440" cy="2378160"/>
              <a:chOff x="3708360" y="907920"/>
              <a:chExt cx="4681440" cy="2378160"/>
            </a:xfrm>
          </p:grpSpPr>
          <p:sp>
            <p:nvSpPr>
              <p:cNvPr id="160" name=""/>
              <p:cNvSpPr txBox="1"/>
              <p:nvPr/>
            </p:nvSpPr>
            <p:spPr>
              <a:xfrm>
                <a:off x="4572000" y="2565360"/>
                <a:ext cx="3600360" cy="72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4">
                  <a:avLst>
                    <a:gd name="adj1" fmla="val 6500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80"/>
                    </a:solidFill>
                    <a:latin typeface="宋体"/>
                  </a:rPr>
                  <a:t>—</a:t>
                </a:r>
                <a:r>
                  <a:rPr b="0" lang="zh-CN" sz="1800" spc="-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80"/>
                    </a:solidFill>
                    <a:latin typeface="宋体"/>
                  </a:rPr>
                  <a:t>学会购物</a:t>
                </a:r>
                <a:endParaRPr b="0" lang="en-US" sz="1800" spc="-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8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3708360" y="907920"/>
                <a:ext cx="4681440" cy="1724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生活中的数学</a:t>
                </a:r>
                <a:endParaRPr b="0" lang="en-US" sz="1800" spc="-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62" name=""/>
          <p:cNvSpPr txBox="1"/>
          <p:nvPr/>
        </p:nvSpPr>
        <p:spPr>
          <a:xfrm>
            <a:off x="3959280" y="4508640"/>
            <a:ext cx="518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石家庄第六十一中学     程新爽</a:t>
            </a:r>
            <a:endParaRPr b="0" lang="en-US" sz="18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-1401840" y="6669000"/>
            <a:ext cx="10906200" cy="189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-5578560" y="0"/>
            <a:ext cx="1868184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-249120" y="142920"/>
            <a:ext cx="9392760" cy="6573960"/>
            <a:chOff x="-249120" y="142920"/>
            <a:chExt cx="9392760" cy="657396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-249120" y="142920"/>
              <a:ext cx="9392760" cy="65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33520" y="2514600"/>
              <a:ext cx="774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99"/>
                  </a:solidFill>
                  <a:latin typeface="Times New Roman"/>
                  <a:ea typeface="华文楷体"/>
                </a:rPr>
                <a:t>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我思我进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1989000"/>
            <a:ext cx="72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1.</a:t>
            </a:r>
            <a:r>
              <a:rPr b="1" lang="zh-CN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生活中数学无处不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0"/>
            <a:ext cx="3581280" cy="687240"/>
            <a:chOff x="0" y="0"/>
            <a:chExt cx="3581280" cy="687240"/>
          </a:xfrm>
        </p:grpSpPr>
        <p:grpSp>
          <p:nvGrpSpPr>
            <p:cNvPr id="353" name=""/>
            <p:cNvGrpSpPr/>
            <p:nvPr/>
          </p:nvGrpSpPr>
          <p:grpSpPr>
            <a:xfrm>
              <a:off x="0" y="0"/>
              <a:ext cx="2362320" cy="520200"/>
              <a:chOff x="0" y="0"/>
              <a:chExt cx="2362320" cy="52020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畅所欲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028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236232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"/>
          <p:cNvSpPr/>
          <p:nvPr/>
        </p:nvSpPr>
        <p:spPr>
          <a:xfrm>
            <a:off x="1187280" y="2565360"/>
            <a:ext cx="66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99ff66"/>
                </a:solidFill>
                <a:latin typeface="Arial"/>
                <a:ea typeface="仿宋_GB2312"/>
              </a:rPr>
              <a:t>学会购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00960" y="3429000"/>
            <a:ext cx="123984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2. </a:t>
            </a: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购物时要货比三家，一般买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数量越多越便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627280" y="465300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73000"/>
                  </a:srgbClr>
                </a:soli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73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3048120"/>
            <a:ext cx="889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7740720" y="-312840"/>
            <a:ext cx="16192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0" y="0"/>
            <a:ext cx="2674800" cy="1547640"/>
            <a:chOff x="0" y="0"/>
            <a:chExt cx="2674800" cy="1547640"/>
          </a:xfrm>
        </p:grpSpPr>
        <p:grpSp>
          <p:nvGrpSpPr>
            <p:cNvPr id="366" name=""/>
            <p:cNvGrpSpPr/>
            <p:nvPr/>
          </p:nvGrpSpPr>
          <p:grpSpPr>
            <a:xfrm>
              <a:off x="0" y="0"/>
              <a:ext cx="2674800" cy="1547640"/>
              <a:chOff x="0" y="0"/>
              <a:chExt cx="2674800" cy="1547640"/>
            </a:xfrm>
          </p:grpSpPr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76360" y="0"/>
                <a:ext cx="1198440" cy="154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8" name=""/>
              <p:cNvGrpSpPr/>
              <p:nvPr/>
            </p:nvGrpSpPr>
            <p:grpSpPr>
              <a:xfrm>
                <a:off x="0" y="0"/>
                <a:ext cx="1676520" cy="1191960"/>
                <a:chOff x="0" y="0"/>
                <a:chExt cx="1676520" cy="1191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0" y="24480"/>
                  <a:ext cx="1638000" cy="116748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720" y="0"/>
                  <a:ext cx="165780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"/>
            <p:cNvSpPr/>
            <p:nvPr/>
          </p:nvSpPr>
          <p:spPr>
            <a:xfrm>
              <a:off x="250920" y="33336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0" y="1627560"/>
            <a:ext cx="900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天才就是百分之九十九的汗水加百分之一的灵感</a:t>
            </a:r>
            <a:r>
              <a:rPr b="0" lang="en-US" sz="4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。                   爱迪生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                  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28918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我们欣赏数学，我们需要数学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                                    </a:t>
            </a:r>
            <a:r>
              <a:rPr b="1" lang="zh-CN" sz="4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陈省身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76280"/>
            <a:ext cx="3114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cc"/>
                </a:solidFill>
                <a:latin typeface="Comic Sans MS"/>
                <a:ea typeface="隶书"/>
              </a:rPr>
              <a:t>结束寄语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6" name="drumroll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indefinit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49120" y="0"/>
            <a:ext cx="9393120" cy="73389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0" y="4365720"/>
            <a:ext cx="3347640" cy="2087640"/>
            <a:chOff x="0" y="4365720"/>
            <a:chExt cx="3347640" cy="2087640"/>
          </a:xfrm>
        </p:grpSpPr>
        <p:grpSp>
          <p:nvGrpSpPr>
            <p:cNvPr id="167" name=""/>
            <p:cNvGrpSpPr/>
            <p:nvPr/>
          </p:nvGrpSpPr>
          <p:grpSpPr>
            <a:xfrm>
              <a:off x="0" y="4365720"/>
              <a:ext cx="3185640" cy="2087640"/>
              <a:chOff x="0" y="4365720"/>
              <a:chExt cx="3185640" cy="20876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365720"/>
                <a:ext cx="3185640" cy="20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80640" y="4509000"/>
                <a:ext cx="2230200" cy="716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673640" y="5797800"/>
              <a:ext cx="1674000" cy="6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03640" y="4365720"/>
            <a:ext cx="3168360" cy="2087640"/>
            <a:chOff x="3203640" y="4365720"/>
            <a:chExt cx="3168360" cy="2087640"/>
          </a:xfrm>
        </p:grpSpPr>
        <p:grpSp>
          <p:nvGrpSpPr>
            <p:cNvPr id="172" name=""/>
            <p:cNvGrpSpPr/>
            <p:nvPr/>
          </p:nvGrpSpPr>
          <p:grpSpPr>
            <a:xfrm>
              <a:off x="3203640" y="4365720"/>
              <a:ext cx="3168000" cy="2087640"/>
              <a:chOff x="3203640" y="4365720"/>
              <a:chExt cx="3168000" cy="2087640"/>
            </a:xfrm>
          </p:grpSpPr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4365720"/>
                <a:ext cx="3016440" cy="20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4410720" y="4438440"/>
                <a:ext cx="1960920" cy="6458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律九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786920" y="5730840"/>
              <a:ext cx="1585080" cy="645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56360" y="4292640"/>
            <a:ext cx="2986920" cy="2160720"/>
            <a:chOff x="6156360" y="4292640"/>
            <a:chExt cx="2986920" cy="2160720"/>
          </a:xfrm>
        </p:grpSpPr>
        <p:grpSp>
          <p:nvGrpSpPr>
            <p:cNvPr id="177" name=""/>
            <p:cNvGrpSpPr/>
            <p:nvPr/>
          </p:nvGrpSpPr>
          <p:grpSpPr>
            <a:xfrm>
              <a:off x="6156360" y="4292640"/>
              <a:ext cx="2986920" cy="2160720"/>
              <a:chOff x="6156360" y="4292640"/>
              <a:chExt cx="2986920" cy="2160720"/>
            </a:xfrm>
          </p:grpSpPr>
          <p:pic>
            <p:nvPicPr>
              <p:cNvPr id="1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6360" y="4292640"/>
                <a:ext cx="2791800" cy="21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7063560" y="4426560"/>
                <a:ext cx="2079720" cy="742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517160" y="5709240"/>
              <a:ext cx="1438200" cy="60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4000" y="2751120"/>
            <a:ext cx="835344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甲、乙、丙三家商店对这种方便面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推出不同的优惠政策</a:t>
            </a: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7960" y="1125360"/>
            <a:ext cx="1940040" cy="1255680"/>
            <a:chOff x="1677960" y="1125360"/>
            <a:chExt cx="1940040" cy="1255680"/>
          </a:xfrm>
        </p:grpSpPr>
        <p:pic>
          <p:nvPicPr>
            <p:cNvPr id="183" name="" descr=""/>
            <p:cNvPicPr/>
            <p:nvPr/>
          </p:nvPicPr>
          <p:blipFill>
            <a:blip r:embed="rId5"/>
            <a:srcRect l="4315" t="6339" r="4315" b="0"/>
            <a:stretch/>
          </p:blipFill>
          <p:spPr>
            <a:xfrm>
              <a:off x="1677960" y="1125360"/>
              <a:ext cx="1920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208200">
              <a:off x="1771200" y="1376280"/>
              <a:ext cx="183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332000" y="2205000"/>
            <a:ext cx="2376360" cy="684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08360" y="1052640"/>
            <a:ext cx="2231640" cy="1704960"/>
            <a:chOff x="3708360" y="1052640"/>
            <a:chExt cx="2231640" cy="1704960"/>
          </a:xfrm>
        </p:grpSpPr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>
              <a:off x="3708360" y="1052640"/>
              <a:ext cx="2231640" cy="1704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8" name=""/>
            <p:cNvSpPr/>
            <p:nvPr/>
          </p:nvSpPr>
          <p:spPr>
            <a:xfrm>
              <a:off x="3857400" y="1844640"/>
              <a:ext cx="2008800" cy="57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02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克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× 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084720" y="1052640"/>
            <a:ext cx="2879280" cy="1655640"/>
            <a:chOff x="6084720" y="1052640"/>
            <a:chExt cx="2879280" cy="1655640"/>
          </a:xfrm>
        </p:grpSpPr>
        <p:pic>
          <p:nvPicPr>
            <p:cNvPr id="190" name="" descr=""/>
            <p:cNvPicPr/>
            <p:nvPr/>
          </p:nvPicPr>
          <p:blipFill>
            <a:blip r:embed="rId7"/>
            <a:stretch/>
          </p:blipFill>
          <p:spPr>
            <a:xfrm>
              <a:off x="6084720" y="1052640"/>
              <a:ext cx="27234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174080" y="1916280"/>
              <a:ext cx="1789920" cy="576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02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克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× 24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195640" y="0"/>
            <a:ext cx="5905440" cy="107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一种方便面有下面三种包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90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进超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249120" y="981000"/>
            <a:ext cx="2084400" cy="863640"/>
          </a:xfrm>
          <a:custGeom>
            <a:avLst/>
            <a:gdLst>
              <a:gd name="textAreaLeft" fmla="*/ 520920 w 2084400"/>
              <a:gd name="textAreaRight" fmla="*/ 1563480 w 2084400"/>
              <a:gd name="textAreaTop" fmla="*/ 0 h 863640"/>
              <a:gd name="textAreaBottom" fmla="*/ 781200 h 863640"/>
            </a:gdLst>
            <a:ahLst/>
            <a:rect l="textAreaLeft" t="textAreaTop" r="textAreaRight" b="textAreaBottom"/>
            <a:pathLst>
              <a:path w="21600" h="21600">
                <a:moveTo>
                  <a:pt x="8100" y="19535"/>
                </a:moveTo>
                <a:lnTo>
                  <a:pt x="8100" y="21084"/>
                </a:lnTo>
                <a:cubicBezTo>
                  <a:pt x="8100" y="21342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1833"/>
                </a:lnTo>
                <a:lnTo>
                  <a:pt x="0" y="2065"/>
                </a:lnTo>
                <a:lnTo>
                  <a:pt x="5400" y="2065"/>
                </a:lnTo>
                <a:lnTo>
                  <a:pt x="5400" y="516"/>
                </a:lnTo>
                <a:cubicBezTo>
                  <a:pt x="5400" y="25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258"/>
                  <a:pt x="16200" y="516"/>
                </a:cubicBezTo>
                <a:lnTo>
                  <a:pt x="16200" y="2065"/>
                </a:lnTo>
                <a:lnTo>
                  <a:pt x="21600" y="2065"/>
                </a:lnTo>
                <a:lnTo>
                  <a:pt x="18850" y="11833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342"/>
                  <a:pt x="13500" y="21084"/>
                </a:cubicBezTo>
                <a:lnTo>
                  <a:pt x="13500" y="19535"/>
                </a:lnTo>
                <a:close/>
              </a:path>
              <a:path fill="darkenLess" w="21600" h="21600">
                <a:moveTo>
                  <a:pt x="8100" y="19535"/>
                </a:moveTo>
                <a:lnTo>
                  <a:pt x="8100" y="21084"/>
                </a:lnTo>
                <a:cubicBezTo>
                  <a:pt x="8100" y="20826"/>
                  <a:pt x="7680" y="20568"/>
                  <a:pt x="7260" y="20568"/>
                </a:cubicBezTo>
                <a:lnTo>
                  <a:pt x="6240" y="20568"/>
                </a:lnTo>
                <a:cubicBezTo>
                  <a:pt x="5820" y="20568"/>
                  <a:pt x="5400" y="20309"/>
                  <a:pt x="5400" y="20051"/>
                </a:cubicBezTo>
                <a:cubicBezTo>
                  <a:pt x="5400" y="19793"/>
                  <a:pt x="5820" y="19535"/>
                  <a:pt x="6240" y="19535"/>
                </a:cubicBezTo>
                <a:close/>
              </a:path>
              <a:path fill="darkenLess" w="21600" h="21600">
                <a:moveTo>
                  <a:pt x="13500" y="19535"/>
                </a:moveTo>
                <a:lnTo>
                  <a:pt x="13500" y="21084"/>
                </a:lnTo>
                <a:cubicBezTo>
                  <a:pt x="13500" y="20826"/>
                  <a:pt x="13920" y="20568"/>
                  <a:pt x="14340" y="20568"/>
                </a:cubicBezTo>
                <a:lnTo>
                  <a:pt x="15360" y="20568"/>
                </a:lnTo>
                <a:cubicBezTo>
                  <a:pt x="15780" y="20568"/>
                  <a:pt x="16200" y="20309"/>
                  <a:pt x="16200" y="20051"/>
                </a:cubicBezTo>
                <a:cubicBezTo>
                  <a:pt x="16200" y="19793"/>
                  <a:pt x="15780" y="19535"/>
                  <a:pt x="15360" y="19535"/>
                </a:cubicBezTo>
                <a:close/>
              </a:path>
              <a:path fill="darkenLess" w="21600" h="21600">
                <a:moveTo>
                  <a:pt x="5400" y="20051"/>
                </a:moveTo>
                <a:lnTo>
                  <a:pt x="5400" y="2065"/>
                </a:lnTo>
              </a:path>
              <a:path fill="darkenLess" w="21600" h="21600">
                <a:moveTo>
                  <a:pt x="16200" y="20051"/>
                </a:moveTo>
                <a:lnTo>
                  <a:pt x="16200" y="2065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促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19280" y="1916280"/>
            <a:ext cx="1584360" cy="5029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每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1916280"/>
            <a:ext cx="2521080" cy="576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每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× 5=7.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916280"/>
            <a:ext cx="2700360" cy="57600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每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× 24=36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6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6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6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11280" y="1052640"/>
            <a:ext cx="2952360" cy="1655640"/>
            <a:chOff x="611280" y="1052640"/>
            <a:chExt cx="2952360" cy="1655640"/>
          </a:xfrm>
        </p:grpSpPr>
        <p:grpSp>
          <p:nvGrpSpPr>
            <p:cNvPr id="201" name=""/>
            <p:cNvGrpSpPr/>
            <p:nvPr/>
          </p:nvGrpSpPr>
          <p:grpSpPr>
            <a:xfrm>
              <a:off x="611280" y="1052640"/>
              <a:ext cx="2809800" cy="1655640"/>
              <a:chOff x="611280" y="1052640"/>
              <a:chExt cx="2809800" cy="1655640"/>
            </a:xfrm>
          </p:grpSpPr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1052640"/>
                <a:ext cx="28098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82560" y="1166400"/>
                <a:ext cx="1967040" cy="568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087280" y="2188440"/>
              <a:ext cx="1476360" cy="510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64000" y="1125360"/>
            <a:ext cx="2808000" cy="1440000"/>
            <a:chOff x="3564000" y="1125360"/>
            <a:chExt cx="2808000" cy="1440000"/>
          </a:xfrm>
        </p:grpSpPr>
        <p:grpSp>
          <p:nvGrpSpPr>
            <p:cNvPr id="206" name=""/>
            <p:cNvGrpSpPr/>
            <p:nvPr/>
          </p:nvGrpSpPr>
          <p:grpSpPr>
            <a:xfrm>
              <a:off x="3564000" y="1125360"/>
              <a:ext cx="2808000" cy="1440000"/>
              <a:chOff x="3564000" y="1125360"/>
              <a:chExt cx="2808000" cy="1440000"/>
            </a:xfrm>
          </p:grpSpPr>
          <p:pic>
            <p:nvPicPr>
              <p:cNvPr id="2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64000" y="1125360"/>
                <a:ext cx="267372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633920" y="1175400"/>
                <a:ext cx="1738080" cy="4456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律九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967280" y="2067120"/>
              <a:ext cx="1404720" cy="44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300720" y="907920"/>
            <a:ext cx="2843280" cy="1873440"/>
            <a:chOff x="6300720" y="907920"/>
            <a:chExt cx="2843280" cy="1873440"/>
          </a:xfrm>
        </p:grpSpPr>
        <p:grpSp>
          <p:nvGrpSpPr>
            <p:cNvPr id="211" name=""/>
            <p:cNvGrpSpPr/>
            <p:nvPr/>
          </p:nvGrpSpPr>
          <p:grpSpPr>
            <a:xfrm>
              <a:off x="6300720" y="907920"/>
              <a:ext cx="2843280" cy="1873440"/>
              <a:chOff x="6300720" y="907920"/>
              <a:chExt cx="2843280" cy="1873440"/>
            </a:xfrm>
          </p:grpSpPr>
          <p:pic>
            <p:nvPicPr>
              <p:cNvPr id="2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00720" y="907920"/>
                <a:ext cx="265752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164360" y="1023840"/>
                <a:ext cx="1979640" cy="6436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596000" y="2136240"/>
              <a:ext cx="1368720" cy="52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71640" y="2709720"/>
            <a:ext cx="7416720" cy="1150920"/>
          </a:xfrm>
          <a:prstGeom prst="cloudCallout">
            <a:avLst>
              <a:gd name="adj1" fmla="val -61023"/>
              <a:gd name="adj2" fmla="val 38967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买一袋这种方便面去哪家商店合适？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3933720"/>
            <a:ext cx="8353440" cy="1224000"/>
          </a:xfrm>
          <a:prstGeom prst="cloudCallout">
            <a:avLst>
              <a:gd name="adj1" fmla="val -55967"/>
              <a:gd name="adj2" fmla="val 2009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这种方便面去哪家商店合适？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、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5229360"/>
            <a:ext cx="7237440" cy="1224000"/>
          </a:xfrm>
          <a:prstGeom prst="cloudCallout">
            <a:avLst>
              <a:gd name="adj1" fmla="val -58731"/>
              <a:gd name="adj2" fmla="val -38587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买多少袋这种方便面才能达到丙店的优惠条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0" y="6742080"/>
            <a:ext cx="9144000" cy="1587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971640" y="0"/>
            <a:ext cx="2304720" cy="1052280"/>
            <a:chOff x="971640" y="0"/>
            <a:chExt cx="2304720" cy="1052280"/>
          </a:xfrm>
        </p:grpSpPr>
        <p:pic>
          <p:nvPicPr>
            <p:cNvPr id="221" name="" descr=""/>
            <p:cNvPicPr/>
            <p:nvPr/>
          </p:nvPicPr>
          <p:blipFill>
            <a:blip r:embed="rId6"/>
            <a:srcRect l="4315" t="6339" r="4315" b="0"/>
            <a:stretch/>
          </p:blipFill>
          <p:spPr>
            <a:xfrm>
              <a:off x="1237320" y="0"/>
              <a:ext cx="186264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208200">
              <a:off x="1320840" y="144360"/>
              <a:ext cx="17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1640" y="652320"/>
              <a:ext cx="2304720" cy="39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每袋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1.5</a:t>
              </a: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76720" y="0"/>
            <a:ext cx="2302920" cy="1038240"/>
            <a:chOff x="3276720" y="0"/>
            <a:chExt cx="2302920" cy="1038240"/>
          </a:xfrm>
        </p:grpSpPr>
        <p:pic>
          <p:nvPicPr>
            <p:cNvPr id="225" name="" descr=""/>
            <p:cNvPicPr/>
            <p:nvPr/>
          </p:nvPicPr>
          <p:blipFill>
            <a:blip r:embed="rId7"/>
            <a:stretch/>
          </p:blipFill>
          <p:spPr>
            <a:xfrm>
              <a:off x="3276720" y="0"/>
              <a:ext cx="2302920" cy="1038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26" name=""/>
            <p:cNvSpPr/>
            <p:nvPr/>
          </p:nvSpPr>
          <p:spPr>
            <a:xfrm>
              <a:off x="3430440" y="482040"/>
              <a:ext cx="2072880" cy="34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包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5=7.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653080" y="0"/>
            <a:ext cx="3490560" cy="1052640"/>
            <a:chOff x="5653080" y="0"/>
            <a:chExt cx="3490560" cy="1052640"/>
          </a:xfrm>
        </p:grpSpPr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5653080" y="0"/>
              <a:ext cx="330084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973920" y="549000"/>
              <a:ext cx="2169720" cy="3664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箱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24=36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611280" y="1052640"/>
            <a:ext cx="2952360" cy="1584360"/>
            <a:chOff x="611280" y="1052640"/>
            <a:chExt cx="2952360" cy="1584360"/>
          </a:xfrm>
        </p:grpSpPr>
        <p:grpSp>
          <p:nvGrpSpPr>
            <p:cNvPr id="232" name=""/>
            <p:cNvGrpSpPr/>
            <p:nvPr/>
          </p:nvGrpSpPr>
          <p:grpSpPr>
            <a:xfrm>
              <a:off x="611280" y="1052640"/>
              <a:ext cx="2809800" cy="1584360"/>
              <a:chOff x="611280" y="1052640"/>
              <a:chExt cx="2809800" cy="1584360"/>
            </a:xfrm>
          </p:grpSpPr>
          <p:pic>
            <p:nvPicPr>
              <p:cNvPr id="2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1052640"/>
                <a:ext cx="280980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682560" y="1161360"/>
                <a:ext cx="1967040" cy="543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087280" y="2139480"/>
              <a:ext cx="1476360" cy="48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445080" y="1052640"/>
            <a:ext cx="2698560" cy="1655640"/>
            <a:chOff x="6445080" y="1052640"/>
            <a:chExt cx="2698560" cy="1655640"/>
          </a:xfrm>
        </p:grpSpPr>
        <p:grpSp>
          <p:nvGrpSpPr>
            <p:cNvPr id="237" name=""/>
            <p:cNvGrpSpPr/>
            <p:nvPr/>
          </p:nvGrpSpPr>
          <p:grpSpPr>
            <a:xfrm>
              <a:off x="6445080" y="1052640"/>
              <a:ext cx="2698560" cy="1655640"/>
              <a:chOff x="6445080" y="1052640"/>
              <a:chExt cx="2698560" cy="16556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45080" y="1052640"/>
                <a:ext cx="252252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7264800" y="1155240"/>
                <a:ext cx="1878840" cy="568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7674480" y="2138040"/>
              <a:ext cx="1298880" cy="465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6742080"/>
            <a:ext cx="9144000" cy="15876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971640" y="0"/>
            <a:ext cx="2231640" cy="1052280"/>
            <a:chOff x="971640" y="0"/>
            <a:chExt cx="2231640" cy="10522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rcRect l="4315" t="6339" r="4315" b="0"/>
            <a:stretch/>
          </p:blipFill>
          <p:spPr>
            <a:xfrm>
              <a:off x="1229040" y="0"/>
              <a:ext cx="180360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rot="208200">
              <a:off x="1309680" y="144720"/>
              <a:ext cx="172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71640" y="652320"/>
              <a:ext cx="2231640" cy="39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每袋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1.5</a:t>
              </a: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76720" y="0"/>
            <a:ext cx="2374560" cy="1038240"/>
            <a:chOff x="3276720" y="0"/>
            <a:chExt cx="2374560" cy="103824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3276720" y="0"/>
              <a:ext cx="2374560" cy="1038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49" name=""/>
            <p:cNvSpPr/>
            <p:nvPr/>
          </p:nvSpPr>
          <p:spPr>
            <a:xfrm>
              <a:off x="3435120" y="482040"/>
              <a:ext cx="2137320" cy="34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包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5=7.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653080" y="0"/>
            <a:ext cx="3239640" cy="1052640"/>
            <a:chOff x="5653080" y="0"/>
            <a:chExt cx="3239640" cy="105264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5653080" y="0"/>
              <a:ext cx="30636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78880" y="549000"/>
              <a:ext cx="2013840" cy="3664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箱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24=36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8360" y="2492280"/>
            <a:ext cx="7632720" cy="2492640"/>
          </a:xfrm>
          <a:prstGeom prst="cloudCallout">
            <a:avLst>
              <a:gd name="adj1" fmla="val -53745"/>
              <a:gd name="adj2" fmla="val 42800"/>
            </a:avLst>
          </a:prstGeom>
          <a:solidFill>
            <a:srgbClr val="1f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李明和王强同时在丙店买这种方便面。李明花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买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，王强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却花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。这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4508640"/>
            <a:ext cx="5761080" cy="1944720"/>
          </a:xfrm>
          <a:prstGeom prst="cloudCallout">
            <a:avLst>
              <a:gd name="adj1" fmla="val -91717"/>
              <a:gd name="adj2" fmla="val -5220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a1836"/>
                </a:solidFill>
                <a:latin typeface="Comic Sans MS"/>
              </a:rPr>
              <a:t>思考</a:t>
            </a:r>
            <a:r>
              <a:rPr b="1" lang="en-US" sz="2800" spc="-1" strike="noStrike">
                <a:solidFill>
                  <a:srgbClr val="ca1836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如果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这种方便面，怎样买比较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564000" y="1052640"/>
            <a:ext cx="2879280" cy="1655640"/>
            <a:chOff x="3564000" y="1052640"/>
            <a:chExt cx="2879280" cy="1655640"/>
          </a:xfrm>
        </p:grpSpPr>
        <p:grpSp>
          <p:nvGrpSpPr>
            <p:cNvPr id="256" name=""/>
            <p:cNvGrpSpPr/>
            <p:nvPr/>
          </p:nvGrpSpPr>
          <p:grpSpPr>
            <a:xfrm>
              <a:off x="3564000" y="1052640"/>
              <a:ext cx="2879280" cy="1655640"/>
              <a:chOff x="3564000" y="1052640"/>
              <a:chExt cx="2879280" cy="1655640"/>
            </a:xfrm>
          </p:grpSpPr>
          <p:pic>
            <p:nvPicPr>
              <p:cNvPr id="2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564000" y="1052640"/>
                <a:ext cx="274176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660920" y="1110240"/>
                <a:ext cx="1782360" cy="51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律九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002920" y="2135160"/>
              <a:ext cx="1440360" cy="51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33896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6156360" y="1268280"/>
            <a:ext cx="3168000" cy="1800360"/>
            <a:chOff x="6156360" y="1268280"/>
            <a:chExt cx="3168000" cy="1800360"/>
          </a:xfrm>
        </p:grpSpPr>
        <p:grpSp>
          <p:nvGrpSpPr>
            <p:cNvPr id="262" name=""/>
            <p:cNvGrpSpPr/>
            <p:nvPr/>
          </p:nvGrpSpPr>
          <p:grpSpPr>
            <a:xfrm>
              <a:off x="6156360" y="1268280"/>
              <a:ext cx="3168000" cy="1800360"/>
              <a:chOff x="6156360" y="1268280"/>
              <a:chExt cx="3168000" cy="1800360"/>
            </a:xfrm>
          </p:grpSpPr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56360" y="1268280"/>
                <a:ext cx="296100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7118640" y="1379880"/>
                <a:ext cx="2205720" cy="6184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达到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30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Comic Sans MS"/>
                  </a:rPr>
                  <a:t>八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7599600" y="2448360"/>
              <a:ext cx="1525320" cy="505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419640" y="1268280"/>
            <a:ext cx="2879280" cy="1800360"/>
            <a:chOff x="3419640" y="1268280"/>
            <a:chExt cx="2879280" cy="1800360"/>
          </a:xfrm>
        </p:grpSpPr>
        <p:grpSp>
          <p:nvGrpSpPr>
            <p:cNvPr id="267" name=""/>
            <p:cNvGrpSpPr/>
            <p:nvPr/>
          </p:nvGrpSpPr>
          <p:grpSpPr>
            <a:xfrm>
              <a:off x="3419640" y="1268280"/>
              <a:ext cx="2879280" cy="1800360"/>
              <a:chOff x="3419640" y="1268280"/>
              <a:chExt cx="2879280" cy="1800360"/>
            </a:xfrm>
          </p:grpSpPr>
          <p:pic>
            <p:nvPicPr>
              <p:cNvPr id="2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19640" y="1268280"/>
                <a:ext cx="274176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4516560" y="1330920"/>
                <a:ext cx="1782360" cy="557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Comic Sans MS"/>
                  </a:rPr>
                  <a:t>一律九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4858560" y="2445480"/>
              <a:ext cx="1440360" cy="55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乙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6560" y="1268280"/>
            <a:ext cx="3313080" cy="1679760"/>
            <a:chOff x="466560" y="1268280"/>
            <a:chExt cx="3313080" cy="1679760"/>
          </a:xfrm>
        </p:grpSpPr>
        <p:grpSp>
          <p:nvGrpSpPr>
            <p:cNvPr id="272" name=""/>
            <p:cNvGrpSpPr/>
            <p:nvPr/>
          </p:nvGrpSpPr>
          <p:grpSpPr>
            <a:xfrm>
              <a:off x="466560" y="1268280"/>
              <a:ext cx="3152880" cy="1679760"/>
              <a:chOff x="466560" y="1268280"/>
              <a:chExt cx="3152880" cy="1679760"/>
            </a:xfrm>
          </p:grpSpPr>
          <p:pic>
            <p:nvPicPr>
              <p:cNvPr id="2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6560" y="1268280"/>
                <a:ext cx="3152880" cy="167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546480" y="1383480"/>
                <a:ext cx="2207520" cy="576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包赠一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Comic Sans MS"/>
                  </a:rPr>
                  <a:t>买一箱赠一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122920" y="2420640"/>
              <a:ext cx="1656720" cy="51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omic Sans MS"/>
                </a:rPr>
                <a:t>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674208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8360" y="2997360"/>
            <a:ext cx="8675640" cy="1152360"/>
          </a:xfrm>
          <a:prstGeom prst="cloudCallout">
            <a:avLst>
              <a:gd name="adj1" fmla="val -52837"/>
              <a:gd name="adj2" fmla="val 5799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2000" y="3357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如果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袋这种方便面，怎样买比较合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4149720"/>
            <a:ext cx="8424720" cy="2448000"/>
          </a:xfrm>
          <a:prstGeom prst="wedgeRoundRectCallout">
            <a:avLst>
              <a:gd name="adj1" fmla="val 53430"/>
              <a:gd name="adj2" fmla="val -61671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甲店：买一箱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）和一包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赠一袋）的价       钱就可以得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袋方便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价钱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甲店：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.5×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24+5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）＝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3.5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乙店：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5×35 ×90%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7.2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丙店：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.5×35 ×80%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2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84360" y="73080"/>
            <a:ext cx="2449080" cy="1051920"/>
            <a:chOff x="684360" y="73080"/>
            <a:chExt cx="2449080" cy="1051920"/>
          </a:xfrm>
        </p:grpSpPr>
        <p:pic>
          <p:nvPicPr>
            <p:cNvPr id="281" name="" descr=""/>
            <p:cNvPicPr/>
            <p:nvPr/>
          </p:nvPicPr>
          <p:blipFill>
            <a:blip r:embed="rId6"/>
            <a:srcRect l="4315" t="6339" r="4315" b="0"/>
            <a:stretch/>
          </p:blipFill>
          <p:spPr>
            <a:xfrm>
              <a:off x="966960" y="73080"/>
              <a:ext cx="1979280" cy="7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 rot="208200">
              <a:off x="1055520" y="217800"/>
              <a:ext cx="188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ef2"/>
                  </a:solidFill>
                  <a:latin typeface="Arial"/>
                </a:rPr>
                <a:t>102</a:t>
              </a:r>
              <a:r>
                <a:rPr b="1" lang="zh-CN" sz="3200" spc="-1" strike="noStrike">
                  <a:solidFill>
                    <a:srgbClr val="3f0ef2"/>
                  </a:solidFill>
                  <a:latin typeface="Arial"/>
                </a:rPr>
                <a:t>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4360" y="725040"/>
              <a:ext cx="2449080" cy="399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每袋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1.5</a:t>
              </a: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989440" y="73080"/>
            <a:ext cx="2736360" cy="1123920"/>
            <a:chOff x="2989440" y="73080"/>
            <a:chExt cx="2736360" cy="1123920"/>
          </a:xfrm>
        </p:grpSpPr>
        <p:pic>
          <p:nvPicPr>
            <p:cNvPr id="285" name="" descr=""/>
            <p:cNvPicPr/>
            <p:nvPr/>
          </p:nvPicPr>
          <p:blipFill>
            <a:blip r:embed="rId7"/>
            <a:stretch/>
          </p:blipFill>
          <p:spPr>
            <a:xfrm>
              <a:off x="2989440" y="73080"/>
              <a:ext cx="2736360" cy="11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86" name=""/>
            <p:cNvSpPr/>
            <p:nvPr/>
          </p:nvSpPr>
          <p:spPr>
            <a:xfrm>
              <a:off x="3171960" y="595080"/>
              <a:ext cx="2462760" cy="378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包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5=7.5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473800" y="0"/>
            <a:ext cx="3669840" cy="1197000"/>
            <a:chOff x="5473800" y="0"/>
            <a:chExt cx="3669840" cy="1197000"/>
          </a:xfrm>
        </p:grpSpPr>
        <p:pic>
          <p:nvPicPr>
            <p:cNvPr id="288" name="" descr=""/>
            <p:cNvPicPr/>
            <p:nvPr/>
          </p:nvPicPr>
          <p:blipFill>
            <a:blip r:embed="rId8"/>
            <a:stretch/>
          </p:blipFill>
          <p:spPr>
            <a:xfrm>
              <a:off x="5473800" y="0"/>
              <a:ext cx="347040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862320" y="624240"/>
              <a:ext cx="2281320" cy="416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每箱</a:t>
              </a: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1.5× 24=36</a:t>
              </a:r>
              <a:r>
                <a:rPr b="1" lang="zh-CN" sz="1800" spc="-1" strike="noStrike">
                  <a:solidFill>
                    <a:srgbClr val="ff0000"/>
                  </a:solidFill>
                  <a:latin typeface="Comic Sans MS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9"/>
          <a:stretch/>
        </p:blipFill>
        <p:spPr>
          <a:xfrm>
            <a:off x="8244000" y="5778360"/>
            <a:ext cx="900000" cy="1079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195640" y="-168120"/>
            <a:ext cx="6948360" cy="6945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466560" y="2349360"/>
            <a:ext cx="1653840" cy="36021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-177840" y="0"/>
            <a:ext cx="7197840" cy="66690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01280" y="887040"/>
            <a:ext cx="55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、有奖销售活动自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日起，   设奖券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，发完为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、凡购买商品价值满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者，     发奖券一张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、发奖日期：详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中旬的本报晚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四、本活动由公证处公证，并邀请顾客代表参加当日的开奖仪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五、奖品设立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232000" y="0"/>
            <a:ext cx="2160720" cy="1197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2411280" y="189000"/>
            <a:ext cx="1828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有奖销售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9" name=""/>
          <p:cNvSpPr/>
          <p:nvPr/>
        </p:nvSpPr>
        <p:spPr>
          <a:xfrm>
            <a:off x="6084720" y="0"/>
            <a:ext cx="3059280" cy="2781360"/>
          </a:xfrm>
          <a:prstGeom prst="wedgeEllipseCallout">
            <a:avLst>
              <a:gd name="adj1" fmla="val 60379"/>
              <a:gd name="adj2" fmla="val 12197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这次有奖销售活动的奖品总金额是多少元？中奖率为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27640" y="2637000"/>
            <a:ext cx="2916360" cy="3887640"/>
          </a:xfrm>
          <a:prstGeom prst="wedgeEllipseCallout">
            <a:avLst>
              <a:gd name="adj1" fmla="val 51907"/>
              <a:gd name="adj2" fmla="val 54939"/>
            </a:avLst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如果奖券全部发出，那么商家至少要卖出多少元商品？奖金额至多占销售额的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0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195640" y="-168120"/>
            <a:ext cx="6948360" cy="6945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-466560" y="2349360"/>
            <a:ext cx="1653840" cy="360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-177840" y="0"/>
            <a:ext cx="7197840" cy="66690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701280" y="887040"/>
            <a:ext cx="55436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、有奖销售活动自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日起，   设奖券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张，发完为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、凡购买商品价值满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者，     发奖券一张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、发奖日期：详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月中旬的本报晚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四、本活动由公证处公证，并邀请顾客代表参加当日的开奖仪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五、奖品设立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二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三等奖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232000" y="0"/>
            <a:ext cx="2160720" cy="1197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2411280" y="189000"/>
            <a:ext cx="1828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有奖销售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0" name=""/>
          <p:cNvSpPr/>
          <p:nvPr/>
        </p:nvSpPr>
        <p:spPr>
          <a:xfrm>
            <a:off x="6084720" y="0"/>
            <a:ext cx="3059280" cy="2781360"/>
          </a:xfrm>
          <a:prstGeom prst="wedgeEllipseCallout">
            <a:avLst>
              <a:gd name="adj1" fmla="val 60379"/>
              <a:gd name="adj2" fmla="val 12197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这次有奖销售活动的奖品总金额是多少元？中奖率为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227640" y="2637000"/>
            <a:ext cx="2916360" cy="3887640"/>
          </a:xfrm>
          <a:prstGeom prst="wedgeEllipseCallout">
            <a:avLst>
              <a:gd name="adj1" fmla="val 51907"/>
              <a:gd name="adj2" fmla="val 54939"/>
            </a:avLst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如果奖券全部发出，那么商家至少要卖出多少元商品？奖金额至多占销售额的百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0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56000" y="3284640"/>
            <a:ext cx="6588000" cy="1800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00×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0×20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＋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0×60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00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） ＝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÷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195640" y="-384120"/>
            <a:ext cx="6948360" cy="7161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-249120" y="2349360"/>
            <a:ext cx="1654200" cy="360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-33480" y="0"/>
            <a:ext cx="6261120" cy="638172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53920" y="887040"/>
            <a:ext cx="4726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、有奖销售活动自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日起，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设奖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张，发完为止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二、凡购买商品价值满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者，     发奖券一张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三、发奖日期：详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月中旬的本报晚报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四、本活动由公证处公证，并邀请顾客代表参加当日的开奖仪式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五、奖品设立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一等奖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二等奖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三等奖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名，奖品价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448000" y="0"/>
            <a:ext cx="2160360" cy="1197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627280" y="189000"/>
            <a:ext cx="1828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有奖销售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35640" y="2637000"/>
            <a:ext cx="3645000" cy="3528720"/>
            <a:chOff x="5435640" y="2637000"/>
            <a:chExt cx="3645000" cy="3528720"/>
          </a:xfrm>
        </p:grpSpPr>
        <p:sp>
          <p:nvSpPr>
            <p:cNvPr id="323" name=""/>
            <p:cNvSpPr/>
            <p:nvPr/>
          </p:nvSpPr>
          <p:spPr>
            <a:xfrm>
              <a:off x="5435640" y="2637000"/>
              <a:ext cx="3492360" cy="3528720"/>
            </a:xfrm>
            <a:prstGeom prst="wedgeEllipseCallout">
              <a:avLst>
                <a:gd name="adj1" fmla="val 62819"/>
                <a:gd name="adj2" fmla="val 697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03920" y="3284280"/>
              <a:ext cx="3276720" cy="165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ffffff"/>
                  </a:solidFill>
                  <a:latin typeface="Comic Sans MS"/>
                  <a:ea typeface="楷体_GB2312"/>
                </a:rPr>
                <a:t>议一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优惠销售与有奖销售，哪种方式对顾客让利更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400" y="189000"/>
            <a:ext cx="431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楷体"/>
              </a:rPr>
              <a:t>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580000" y="0"/>
            <a:ext cx="3564000" cy="3284640"/>
            <a:chOff x="5580000" y="0"/>
            <a:chExt cx="3564000" cy="3284640"/>
          </a:xfrm>
        </p:grpSpPr>
        <p:sp>
          <p:nvSpPr>
            <p:cNvPr id="328" name=""/>
            <p:cNvSpPr/>
            <p:nvPr/>
          </p:nvSpPr>
          <p:spPr>
            <a:xfrm>
              <a:off x="5580000" y="0"/>
              <a:ext cx="3564000" cy="3284640"/>
            </a:xfrm>
            <a:prstGeom prst="wedgeEllipseCallout">
              <a:avLst>
                <a:gd name="adj1" fmla="val 51601"/>
                <a:gd name="adj2" fmla="val 76777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24360" y="620640"/>
              <a:ext cx="3419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（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）如果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10</a:t>
              </a:r>
              <a:r>
                <a:rPr b="1" lang="zh-CN" sz="2800" spc="-1" strike="noStrike">
                  <a:solidFill>
                    <a:srgbClr val="ffffff"/>
                  </a:solidFill>
                  <a:latin typeface="Comic Sans MS"/>
                </a:rPr>
                <a:t>万元的商品全部按八五折销售，那么实际让利给顾客多少元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3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733896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0" y="142920"/>
            <a:ext cx="9144000" cy="6573960"/>
            <a:chOff x="0" y="142920"/>
            <a:chExt cx="9144000" cy="657396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0" y="142920"/>
              <a:ext cx="9144000" cy="65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62120" y="2514600"/>
              <a:ext cx="75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99"/>
                  </a:solidFill>
                  <a:latin typeface="Times New Roman"/>
                  <a:ea typeface="华文楷体"/>
                </a:rPr>
                <a:t>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我思我进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2057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方正舒体"/>
                <a:ea typeface="方正舒体"/>
              </a:rPr>
              <a:t>、通过这节课的学习活动你   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3581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、对这节课的学习，你还有什么疑惑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0"/>
            <a:ext cx="3581280" cy="687240"/>
            <a:chOff x="0" y="0"/>
            <a:chExt cx="3581280" cy="687240"/>
          </a:xfrm>
        </p:grpSpPr>
        <p:grpSp>
          <p:nvGrpSpPr>
            <p:cNvPr id="338" name=""/>
            <p:cNvGrpSpPr/>
            <p:nvPr/>
          </p:nvGrpSpPr>
          <p:grpSpPr>
            <a:xfrm>
              <a:off x="0" y="0"/>
              <a:ext cx="2362320" cy="520200"/>
              <a:chOff x="0" y="0"/>
              <a:chExt cx="2362320" cy="52020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00"/>
                    </a:solidFill>
                    <a:latin typeface="Times New Roman"/>
                    <a:ea typeface="隶书"/>
                  </a:rPr>
                  <a:t>畅所欲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8028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236232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1187280" y="2565360"/>
            <a:ext cx="66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99ff66"/>
                </a:solidFill>
                <a:latin typeface="Arial"/>
                <a:ea typeface="仿宋_GB2312"/>
              </a:rPr>
              <a:t>学会购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8282160" y="5610240"/>
            <a:ext cx="861840" cy="1247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0" y="666900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20:20:54Z</dcterms:created>
  <dc:creator>王祥斌</dc:creator>
  <dc:description/>
  <dc:language>en-US</dc:language>
  <cp:lastModifiedBy>asus</cp:lastModifiedBy>
  <cp:lastPrinted>1899-12-30T00:00:00Z</cp:lastPrinted>
  <dcterms:modified xsi:type="dcterms:W3CDTF">2009-01-06T09:58:16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